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D0EB6-34D4-456E-AA64-BB9F2070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76A3-4C50-4937-9214-900AF640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FE295-3D52-4083-95F0-ED5607B14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529D7-1949-4CDB-9024-AB0A5304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2BE98-BC4A-471D-89A1-C50BDFDE9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D802-6F62-413D-8E92-B6FF2D473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42B0F-D0A3-4FEF-BEF0-B20F7275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FEBD0-F55F-470C-999E-A90A75D58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F29A7-2821-493F-A80C-A100E6DB2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D687F-4F02-46E8-86B7-C72501D9B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F9A8A-DD80-40EC-953C-FC2CB52BF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CCAC-026F-4058-A46E-C55EC0997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A9B3-4A6F-4574-B5D9-EECB274E5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1C52F-6068-403C-BCCD-BF3DF28E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45C5D-EEA4-4FEE-AE5D-9F519D575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E8F84-41EA-4CF6-BB78-59D3470AB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70FF4-4957-43E2-B8AE-41A6D23F3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AB6F56-658A-436D-8D55-48BA7A9ED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0A0A9B-4B1F-443D-934A-5A3965963B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7D263F-95F6-48BF-BB02-FA53FDA94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ED7684-C1A8-470F-9B85-E3D052849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031A25-333B-40E1-BB37-F82BEA631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0FF6-A109-4F92-A573-E488EA52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6A2E15-61FC-495E-AB11-7930A79FF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E73891-9102-41F6-8AD5-48BF34CB3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A39C70-6589-4ADD-936F-95A831E72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C36628-F51F-4315-9209-DEF18F1B2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5F31CD-E928-4928-AABB-48FF961CD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0A91C2-D4E3-4ED7-B4B7-F5422C38BC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3F5AD3-6D7B-40AC-8CE4-21C4C6277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CA14DD-74FA-4C1F-B4C8-5A0133EA5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4A86CD-1F15-455D-86C3-6E3F7F54B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9FDED1-4386-4531-93D2-779B90DEB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8A46-47E1-45F5-8D8F-64C74C9A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C7D5AD-B546-4471-B537-BB074E4D2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769524-2B4C-40A0-8E29-929F80A09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D000D4-B746-4A15-A071-9A9C1715F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C04DAF-BB45-482C-A338-9D045B5EE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461807-BCA6-4D6C-A909-6FD31DD48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0EE9AA-015E-4B98-B35F-8D8EAAC34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B53080-04F6-4910-AD20-A1B17D615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71610F-B833-4352-B0C7-721433190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7A668B-6163-4F07-A601-C7E0C11ABA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F49CC5-BA47-4BF7-8E76-F9DF6A078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EA95-02AE-4F5E-A33F-EB06D7A87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44E186-6905-4854-A347-16805CB4F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A9C3F7-08A7-48FC-978E-A8B7EE91E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6976C5-C3C4-4BE7-8156-A354B0D4B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A6A3F4-4774-4310-B884-5A425501A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BC1D78-025F-41E7-BB26-D3CB920503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C14106-1313-4FD9-AC4A-D1C5D7D24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5495B5-68CF-4D4F-BB20-C144EE051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5C25A8-8EB6-4A57-B351-FEAB4255F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73DEA7-096B-47B8-A319-9E0695DD6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D74C392-FF2A-4FF1-8912-8457B9C1B7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E15C5-A138-40BE-8B5E-95831E6F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806FC5-18B3-4661-A2C4-CD25C75688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258751-1D75-4481-A31E-75519C31C1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639CC-8AA3-4D9F-ACFC-B5D3B64DA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21A1C-961B-4B05-B02E-E1FCE53F3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51996-6F93-4815-B0A7-094624753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2922A-09D5-43ED-AD78-8B988F4D7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DF7DB-E933-4DDF-8534-BB5C3E2D0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7522F-6D55-4AD3-81F3-E25F6470E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6F656-615A-4DB4-AB0F-A0E555B132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F39FF-E590-4E84-AA68-3D183001C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C7EC-984B-4868-AAAB-52374713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0F78A-5476-4B86-A4B6-EAB4371B3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CB21C9-6280-499E-9E4F-F7CEBF23A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CA25B-3842-400F-ADE7-38D91B9841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C2A147-D292-4358-905B-598696F21C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C0BA04-8FAC-4149-B1DB-41D78568FE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685050-D39E-4E71-9E2B-BDEDDB461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F84E99-2DCD-4396-B593-6C6EE2BDCB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A1962B4-ABED-479F-8A97-1D2D021BD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5E121D-8848-45B2-8C6F-A0C4B8F6B8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21EDAF-3AD5-4C4D-8728-ABACA824F6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61AB-9784-4871-A7D8-F03AF210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9AF49D-617D-4BDF-9845-9D27EB340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B8155F-40C8-4EB7-B2FC-A47304E66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2741FB-BE15-4CF1-A2AD-53A512381F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CF7AFBD-E266-4EE3-A2DB-E607120065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D0C0204-957E-4FBE-AEDC-4EE60856CD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3CB1CF-3E2D-44C2-A9AA-77702E4546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27C3B1-A077-4099-BDBF-F8C5FFD50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398AD-05CC-4188-A47E-087E53A2E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A543FF-2D2E-44CE-AC4F-7B4D2951E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62F849-3249-4828-BE2F-DE081693E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81D6-CB8E-45A1-943F-8342B76C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9D53B4-3790-455C-AACE-2B5F3BAF5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E2B13-A3BA-49C9-81F7-74CA46656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7F0D5-FCB0-42EB-AD9A-F6AB3C11C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19429B-526C-46A4-A437-4F12C027D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6FD82-1C25-48F5-BABF-44314B542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F5FEAA-3D90-4C47-92A6-F3A343B6B7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b"/>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4E53C8-917D-4A8F-B12E-DDFB80D058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680F-7537-4384-94D6-421417480F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2d0"/>
                </a:solidFill>
                <a:latin typeface="Tw Cen MT"/>
              </a:rPr>
              <a:t>Click to edit the title text format</a:t>
            </a:r>
            <a:endParaRPr b="0" lang="en-US" sz="4400" spc="-1" strike="noStrike">
              <a:solidFill>
                <a:srgbClr val="d4d2d0"/>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2d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5D0C-8260-4145-B973-1BF668CA8248}" type="slidenum">
              <a:rPr b="1" lang="en-US" sz="1400" spc="-1" strike="noStrike">
                <a:solidFill>
                  <a:srgbClr val="d4d2d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A3D3-8B24-49D6-A8E4-23E0FEB6426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8C1F-61AA-454C-B962-4E20B3688C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AE0F-4821-4AAA-A0CC-A829B66EAE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b3b3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23B9-05FC-4841-8846-4B49D58269E5}" type="slidenum">
              <a:rPr b="1" lang="en-US" sz="1400" spc="-1" strike="noStrike">
                <a:solidFill>
                  <a:srgbClr val="3b3b3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EF4A-4DDD-43A2-B7A1-313BC1FAF4F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ca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Click to edit the title text format</a:t>
            </a:r>
            <a:endParaRPr b="0" lang="en-US" sz="4400" spc="-1" strike="noStrike">
              <a:solidFill>
                <a:srgbClr val="3b3b3b"/>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6ea0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caf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8d89a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7485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3A62-4391-4D4F-8D27-E1D01AB494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0" name="Text Box 2"/>
          <p:cNvSpPr/>
          <p:nvPr/>
        </p:nvSpPr>
        <p:spPr>
          <a:xfrm>
            <a:off x="152280" y="6094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G Power</a:t>
            </a:r>
            <a:endParaRPr b="0" lang="en-US" sz="3200" spc="-1" strike="noStrike">
              <a:solidFill>
                <a:srgbClr val="000000"/>
              </a:solidFill>
              <a:latin typeface="Arial"/>
            </a:endParaRPr>
          </a:p>
        </p:txBody>
      </p:sp>
      <p:sp>
        <p:nvSpPr>
          <p:cNvPr id="351" name="Line 3"/>
          <p:cNvSpPr/>
          <p:nvPr/>
        </p:nvSpPr>
        <p:spPr>
          <a:xfrm>
            <a:off x="0" y="1219320"/>
            <a:ext cx="5867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Text Box 5"/>
          <p:cNvSpPr/>
          <p:nvPr/>
        </p:nvSpPr>
        <p:spPr>
          <a:xfrm>
            <a:off x="685800" y="2367000"/>
            <a:ext cx="7696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ea8c0"/>
                </a:solidFill>
                <a:latin typeface="Tw Cen MT"/>
              </a:rPr>
              <a:t>FRAME 9E GAS TURBINE POWER STATION</a:t>
            </a:r>
            <a:endParaRPr b="0" lang="en-US" sz="3200" spc="-1" strike="noStrike">
              <a:solidFill>
                <a:srgbClr val="d4d2d0"/>
              </a:solidFill>
              <a:latin typeface="Tw Cen MT"/>
            </a:endParaRPr>
          </a:p>
        </p:txBody>
      </p:sp>
      <p:sp>
        <p:nvSpPr>
          <p:cNvPr id="354"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230 MW</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812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3b3b3b"/>
              </a:solidFill>
              <a:latin typeface="Tw Cen MT"/>
            </a:endParaRPr>
          </a:p>
        </p:txBody>
      </p:sp>
      <p:pic>
        <p:nvPicPr>
          <p:cNvPr id="372" name="Content Placeholder 3" descr="Performance Gas.JPG"/>
          <p:cNvPicPr/>
          <p:nvPr/>
        </p:nvPicPr>
        <p:blipFill>
          <a:blip r:embed="rId1"/>
          <a:stretch/>
        </p:blipFill>
        <p:spPr>
          <a:xfrm>
            <a:off x="865080" y="838080"/>
            <a:ext cx="3630600" cy="5516640"/>
          </a:xfrm>
          <a:prstGeom prst="rect">
            <a:avLst/>
          </a:prstGeom>
          <a:ln w="0">
            <a:noFill/>
          </a:ln>
        </p:spPr>
      </p:pic>
      <p:pic>
        <p:nvPicPr>
          <p:cNvPr id="373" name="Content Placeholder 6" descr="Performance Distillate.JPG"/>
          <p:cNvPicPr/>
          <p:nvPr/>
        </p:nvPicPr>
        <p:blipFill>
          <a:blip r:embed="rId2"/>
          <a:stretch/>
        </p:blipFill>
        <p:spPr>
          <a:xfrm>
            <a:off x="4648320" y="838080"/>
            <a:ext cx="363060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36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b3b"/>
                </a:solidFill>
                <a:latin typeface="Tw Cen MT"/>
              </a:rPr>
              <a:t>Power Station Layout</a:t>
            </a:r>
            <a:endParaRPr b="0" lang="en-US" sz="1600" spc="-1" strike="noStrike">
              <a:solidFill>
                <a:srgbClr val="3b3b3b"/>
              </a:solidFill>
              <a:latin typeface="Tw Cen MT"/>
            </a:endParaRPr>
          </a:p>
        </p:txBody>
      </p:sp>
      <p:pic>
        <p:nvPicPr>
          <p:cNvPr id="375" name="Picture 2" descr=""/>
          <p:cNvPicPr/>
          <p:nvPr/>
        </p:nvPicPr>
        <p:blipFill>
          <a:blip r:embed="rId1"/>
          <a:stretch/>
        </p:blipFill>
        <p:spPr>
          <a:xfrm>
            <a:off x="0" y="12193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b"/>
                </a:solidFill>
                <a:latin typeface="Tw Cen MT"/>
              </a:rPr>
              <a:t>Over View</a:t>
            </a:r>
            <a:endParaRPr b="0" lang="en-US" sz="4400" spc="-1" strike="noStrike">
              <a:solidFill>
                <a:srgbClr val="3b3b3b"/>
              </a:solidFill>
              <a:latin typeface="Tw Cen MT"/>
            </a:endParaRPr>
          </a:p>
        </p:txBody>
      </p:sp>
      <p:pic>
        <p:nvPicPr>
          <p:cNvPr id="356" name="Content Placeholder 3" descr=""/>
          <p:cNvPicPr/>
          <p:nvPr/>
        </p:nvPicPr>
        <p:blipFill>
          <a:blip r:embed="rId1"/>
          <a:stretch/>
        </p:blipFill>
        <p:spPr>
          <a:xfrm>
            <a:off x="609480" y="1590840"/>
            <a:ext cx="8163000" cy="45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b0f0"/>
                </a:solidFill>
                <a:uFillTx/>
                <a:latin typeface="Tw Cen MT"/>
              </a:rPr>
              <a:t>Introduction</a:t>
            </a:r>
            <a:endParaRPr b="0" lang="en-US" sz="2000" spc="-1" strike="noStrike">
              <a:solidFill>
                <a:srgbClr val="3b3b3b"/>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TG Power is a private energy company, based in Dubai UAE,  dedicated to finding new, long-term energy solutions that are safe, economically viable and environmentally friendly to enhance the future of countries and economies worldwide.</a:t>
            </a:r>
            <a:endParaRPr b="0" lang="en-US" sz="12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TG Power is responding to international, political, environmental and free market demands for  private power projects.</a:t>
            </a:r>
            <a:endParaRPr b="0" lang="en-US" sz="12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e are dedicated to the task of providing the best Management and Advisory services available in the complex arena of International Business and Project Development. </a:t>
            </a:r>
            <a:br>
              <a:rPr sz="1200"/>
            </a:br>
            <a:br>
              <a:rPr sz="1200"/>
            </a:br>
            <a:r>
              <a:rPr b="0" lang="en-US" sz="1200" spc="-1" strike="noStrike">
                <a:solidFill>
                  <a:srgbClr val="000000"/>
                </a:solidFill>
                <a:latin typeface="Tw Cen MT"/>
              </a:rPr>
              <a:t>With a specific focus on the Middle East, Africa, and Asia, we offer a broad range of skills that focus on Strategic Planning,  Plant Installation, Risk Assessment &amp; Mitigation, and Long Range Project Execution planning.</a:t>
            </a:r>
            <a:endParaRPr b="0" lang="en-US" sz="12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ur sources of revenue will be from participation in individual targeted projects. Our revenues will be in the form of development fees from Farm-In Agreements with new partners in our projects, Carried and Royalty interest from projects revenue, and when appropriate, in the form of capital gains from the sale of all or a portion of our ownership interest in a project.</a:t>
            </a:r>
            <a:endParaRPr b="0" lang="en-US" sz="12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e will also seek opportunities to participate in new or ongoing projects that directly generate or co-generate energy or, consume energy. At this time we have identified some potential projects in energy which we will conduct our due diligence and, if they are attractive, we may pursue them. We will also focus our efforts in the Middle East,  Africa, and Asia. </a:t>
            </a:r>
            <a:endParaRPr b="0" lang="en-US" sz="12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283680" indent="-283680">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a8c0"/>
                </a:solidFill>
                <a:latin typeface="Tw Cen MT"/>
              </a:rPr>
              <a:t>Assets</a:t>
            </a:r>
            <a:endParaRPr b="0" lang="en-US" sz="2000" spc="-1" strike="noStrike">
              <a:solidFill>
                <a:srgbClr val="3b3b3b"/>
              </a:solidFill>
              <a:latin typeface="Tw Cen MT"/>
            </a:endParaRPr>
          </a:p>
        </p:txBody>
      </p:sp>
      <p:sp>
        <p:nvSpPr>
          <p:cNvPr id="360" name=""/>
          <p:cNvSpPr txBox="1"/>
          <p:nvPr/>
        </p:nvSpPr>
        <p:spPr>
          <a:xfrm>
            <a:off x="457200" y="1676520"/>
            <a:ext cx="8229600" cy="4449600"/>
          </a:xfrm>
          <a:prstGeom prst="rect">
            <a:avLst/>
          </a:prstGeom>
          <a:noFill/>
          <a:ln w="0">
            <a:noFill/>
          </a:ln>
        </p:spPr>
        <p:txBody>
          <a:bodyPr anchor="t">
            <a:normAutofit fontScale="99000"/>
          </a:bodyPr>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ETG Power currently have a fully operational 230 MW GE Frame 9161E gas turbine power plant available for:</a:t>
            </a: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Re Location &amp; Installation under a Power Purchase Agreement</a:t>
            </a:r>
            <a:endParaRPr b="0" lang="en-US" sz="1700" spc="-1" strike="noStrike">
              <a:solidFill>
                <a:srgbClr val="000000"/>
              </a:solidFill>
              <a:latin typeface="Tw Cen MT"/>
            </a:endParaRPr>
          </a:p>
          <a:p>
            <a:pPr marL="270000" indent="-270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Complete Project Funding Available</a:t>
            </a:r>
            <a:endParaRPr b="0" lang="en-US" sz="1700" spc="-1" strike="noStrike">
              <a:solidFill>
                <a:srgbClr val="000000"/>
              </a:solidFill>
              <a:latin typeface="Tw Cen MT"/>
            </a:endParaRPr>
          </a:p>
          <a:p>
            <a:pPr marL="270000" indent="-270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Currently the Plant is Open Cycle however we can Upgrade to Combine Cycle </a:t>
            </a: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power plant is available for fast track power, it is complete and includes all equipment required to generate electricity including gas turbines, generators, balance of plant and transformers.</a:t>
            </a: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70000" indent="-270000" algn="just">
              <a:lnSpc>
                <a:spcPct val="80000"/>
              </a:lnSpc>
              <a:spcBef>
                <a:spcPts val="700"/>
              </a:spcBef>
              <a:buClr>
                <a:srgbClr val="8d89a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Power Plant to be installed as per OEM specification with all relevant warranties, it will be operated and maintained under a contractual Long Term Service Agreement (LTSA).</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ea8c0"/>
                </a:solidFill>
                <a:uFillTx/>
                <a:latin typeface="Tw Cen MT"/>
              </a:rPr>
              <a:t>Technical Overview</a:t>
            </a:r>
            <a:endParaRPr b="0" lang="en-US" sz="3200" spc="-1" strike="noStrike">
              <a:solidFill>
                <a:srgbClr val="3b3b3b"/>
              </a:solidFill>
              <a:latin typeface="Tw Cen MT"/>
            </a:endParaRPr>
          </a:p>
        </p:txBody>
      </p:sp>
      <p:sp>
        <p:nvSpPr>
          <p:cNvPr id="362" name=""/>
          <p:cNvSpPr txBox="1"/>
          <p:nvPr/>
        </p:nvSpPr>
        <p:spPr>
          <a:xfrm>
            <a:off x="533520" y="1981080"/>
            <a:ext cx="8229600" cy="4525920"/>
          </a:xfrm>
          <a:prstGeom prst="rect">
            <a:avLst/>
          </a:prstGeom>
          <a:noFill/>
          <a:ln w="0">
            <a:noFill/>
          </a:ln>
        </p:spPr>
        <p:txBody>
          <a:bodyPr anchor="t">
            <a:normAutofit fontScale="99000"/>
          </a:bodyPr>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wo GE Frame 9 E Gas Turbine Power Packages Type PG 9161E</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as Turbine Numbers: GT 5170 and GT 5171 </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rial Numbers: 295596 and 295597</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ual Fuel, 50 Hz, Brush Generator, Water Injection for NOx</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Only 15,000 Hours Since New</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jor Overhaul’s Completed on Both Units by GE (450Hrs &amp; 500Hrs TSO)</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former Ratings 14kV Primary Side, 132 kV Secondary Side</a:t>
            </a: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gn="just">
              <a:lnSpc>
                <a:spcPct val="70000"/>
              </a:lnSpc>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te Rating: Gas Base Load 119.3 MW, Distillate 116. 2 MW</a:t>
            </a:r>
            <a:endParaRPr b="0" lang="en-US" sz="1800" spc="-1" strike="noStrike">
              <a:solidFill>
                <a:srgbClr val="000000"/>
              </a:solidFill>
              <a:latin typeface="Tw Cen MT"/>
            </a:endParaRPr>
          </a:p>
          <a:p>
            <a:pPr lvl="3" marL="1357560" indent="-226080" algn="just">
              <a:lnSpc>
                <a:spcPct val="7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Gas Peak Load 129.3 MW, Distillate 126. 1 MW</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ea8c0"/>
                </a:solidFill>
                <a:uFillTx/>
                <a:latin typeface="Tw Cen MT"/>
              </a:rPr>
              <a:t>Major Equipment Details</a:t>
            </a:r>
            <a:endParaRPr b="0" lang="en-US" sz="3200" spc="-1" strike="noStrike">
              <a:solidFill>
                <a:srgbClr val="3b3b3b"/>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s Turbines  JBE  UK</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rol System  GE</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enerator  Brush  UK</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re Protection System  Inergen  UK</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x 60 PPM VD at 15% Water NOx</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t Rate Gas 10350 Btu/kWh (LHV)</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ea8c0"/>
                </a:solidFill>
                <a:uFillTx/>
                <a:latin typeface="Tw Cen MT"/>
              </a:rPr>
              <a:t>Standard Power Package </a:t>
            </a:r>
            <a:endParaRPr b="0" lang="en-US" sz="3200" spc="-1" strike="noStrike">
              <a:solidFill>
                <a:srgbClr val="3b3b3b"/>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mprises:</a:t>
            </a:r>
            <a:endParaRPr b="0" lang="en-US" sz="20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rol Compartment</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ssory Compartment</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rbine Compartment</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let Air System</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haust System</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enerator Package</a:t>
            </a: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oling Water Package</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ccaf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ea8c0"/>
                </a:solidFill>
                <a:latin typeface="Tw Cen MT"/>
              </a:rPr>
              <a:t>Power Station</a:t>
            </a:r>
            <a:endParaRPr b="0" lang="en-US" sz="4400" spc="-1" strike="noStrike">
              <a:solidFill>
                <a:srgbClr val="3b3b3b"/>
              </a:solidFill>
              <a:latin typeface="Tw Cen MT"/>
            </a:endParaRPr>
          </a:p>
        </p:txBody>
      </p:sp>
      <p:pic>
        <p:nvPicPr>
          <p:cNvPr id="368" name="Content Placeholder 4" descr="DSC01043.JPG"/>
          <p:cNvPicPr/>
          <p:nvPr/>
        </p:nvPicPr>
        <p:blipFill>
          <a:blip r:embed="rId1"/>
          <a:stretch/>
        </p:blipFill>
        <p:spPr>
          <a:xfrm>
            <a:off x="1692360" y="1600200"/>
            <a:ext cx="59943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ea8c0"/>
                </a:solidFill>
                <a:latin typeface="Tw Cen MT"/>
              </a:rPr>
              <a:t>One of Two Identical Units</a:t>
            </a:r>
            <a:endParaRPr b="0" lang="en-US" sz="4400" spc="-1" strike="noStrike">
              <a:solidFill>
                <a:srgbClr val="3b3b3b"/>
              </a:solidFill>
              <a:latin typeface="Tw Cen MT"/>
            </a:endParaRPr>
          </a:p>
        </p:txBody>
      </p:sp>
      <p:pic>
        <p:nvPicPr>
          <p:cNvPr id="370" name="Content Placeholder 3" descr="DSC01034.JPG"/>
          <p:cNvPicPr/>
          <p:nvPr/>
        </p:nvPicPr>
        <p:blipFill>
          <a:blip r:embed="rId1"/>
          <a:stretch/>
        </p:blipFill>
        <p:spPr>
          <a:xfrm>
            <a:off x="1763640" y="1654200"/>
            <a:ext cx="5851440" cy="43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8:41:36Z</dcterms:created>
  <dc:creator>erika</dc:creator>
  <dc:description/>
  <dc:language>en-US</dc:language>
  <cp:lastModifiedBy>Mike McCafferty</cp:lastModifiedBy>
  <dcterms:modified xsi:type="dcterms:W3CDTF">2010-01-22T09:52:42Z</dcterms:modified>
  <cp:revision>42</cp:revision>
  <dc:subject/>
  <dc:title>TURKISH AIRLINES TECHNIC, INC.</dc:title>
</cp:coreProperties>
</file>